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8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5320" y="8000640"/>
            <a:ext cx="1229364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1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2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3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4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5" algn="just">
              <a:lnSpc>
                <a:spcPct val="90000"/>
              </a:lnSpc>
              <a:buClr>
                <a:srgbClr val="24375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6" algn="just">
              <a:lnSpc>
                <a:spcPct val="90000"/>
              </a:lnSpc>
              <a:buClr>
                <a:srgbClr val="24375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55320" y="5905440"/>
            <a:ext cx="122936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04640" y="8623440"/>
            <a:ext cx="12193560" cy="50760"/>
            <a:chOff x="404640" y="8623440"/>
            <a:chExt cx="12193560" cy="50760"/>
          </a:xfrm>
        </p:grpSpPr>
        <p:sp>
          <p:nvSpPr>
            <p:cNvPr id="3" name=""/>
            <p:cNvSpPr/>
            <p:nvPr/>
          </p:nvSpPr>
          <p:spPr>
            <a:xfrm>
              <a:off x="404640" y="862344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4640" y="867420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58928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4956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72396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14588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199044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1990440" indent="-34956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1990440" indent="-34956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04640" y="2565360"/>
            <a:ext cx="12193560" cy="50760"/>
            <a:chOff x="404640" y="2565360"/>
            <a:chExt cx="12193560" cy="50760"/>
          </a:xfrm>
        </p:grpSpPr>
        <p:sp>
          <p:nvSpPr>
            <p:cNvPr id="368" name=""/>
            <p:cNvSpPr/>
            <p:nvPr/>
          </p:nvSpPr>
          <p:spPr>
            <a:xfrm>
              <a:off x="404640" y="256536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4640" y="261612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355320" y="5410080"/>
            <a:ext cx="5816520" cy="166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7000"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1">
              <a:spcBef>
                <a:spcPts val="1001"/>
              </a:spcBef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2">
              <a:spcBef>
                <a:spcPts val="1001"/>
              </a:spcBef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3">
              <a:spcBef>
                <a:spcPts val="1001"/>
              </a:spcBef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4">
              <a:spcBef>
                <a:spcPts val="1001"/>
              </a:spcBef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5">
              <a:spcBef>
                <a:spcPts val="1001"/>
              </a:spcBef>
              <a:buClr>
                <a:srgbClr val="24375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6">
              <a:spcBef>
                <a:spcPts val="1001"/>
              </a:spcBef>
              <a:buClr>
                <a:srgbClr val="24375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55320" y="1930320"/>
            <a:ext cx="581652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06440" y="5270400"/>
            <a:ext cx="5689440" cy="50760"/>
            <a:chOff x="406440" y="5270400"/>
            <a:chExt cx="5689440" cy="50760"/>
          </a:xfrm>
        </p:grpSpPr>
        <p:sp>
          <p:nvSpPr>
            <p:cNvPr id="445" name=""/>
            <p:cNvSpPr/>
            <p:nvPr/>
          </p:nvSpPr>
          <p:spPr>
            <a:xfrm>
              <a:off x="406440" y="5270400"/>
              <a:ext cx="568944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6440" y="5321160"/>
              <a:ext cx="568944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55320" y="444600"/>
            <a:ext cx="12293640" cy="886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2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  <a:p>
            <a:pPr lvl="1" marL="762120" indent="-368280">
              <a:lnSpc>
                <a:spcPct val="12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  <a:p>
            <a:pPr lvl="2" marL="1206360" indent="-368280">
              <a:lnSpc>
                <a:spcPct val="12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  <a:p>
            <a:pPr lvl="3" marL="1650960" indent="-368280">
              <a:lnSpc>
                <a:spcPct val="12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  <a:p>
            <a:pPr lvl="4" marL="2095560" indent="-368280">
              <a:lnSpc>
                <a:spcPct val="12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  <a:p>
            <a:pPr lvl="5" marL="2095560" indent="-368280">
              <a:lnSpc>
                <a:spcPct val="12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  <a:p>
            <a:pPr lvl="6" marL="2095560" indent="-368280">
              <a:lnSpc>
                <a:spcPct val="12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76212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20636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65096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209556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2095560" indent="-36828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2095560" indent="-36828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04640" y="2565360"/>
            <a:ext cx="12193560" cy="50760"/>
            <a:chOff x="404640" y="2565360"/>
            <a:chExt cx="12193560" cy="50760"/>
          </a:xfrm>
        </p:grpSpPr>
        <p:sp>
          <p:nvSpPr>
            <p:cNvPr id="44" name=""/>
            <p:cNvSpPr/>
            <p:nvPr/>
          </p:nvSpPr>
          <p:spPr>
            <a:xfrm>
              <a:off x="404640" y="256536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4640" y="261612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5320" y="2984040"/>
            <a:ext cx="581652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345960" indent="-3459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716040" indent="-3459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133640" indent="-3459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551600" indent="-3459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1969560" indent="-3459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1969560" indent="-34596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1969560" indent="-34596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55320" y="444240"/>
            <a:ext cx="581652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06440" y="2565360"/>
            <a:ext cx="5689440" cy="50760"/>
            <a:chOff x="406440" y="2565360"/>
            <a:chExt cx="5689440" cy="50760"/>
          </a:xfrm>
        </p:grpSpPr>
        <p:sp>
          <p:nvSpPr>
            <p:cNvPr id="85" name=""/>
            <p:cNvSpPr/>
            <p:nvPr/>
          </p:nvSpPr>
          <p:spPr>
            <a:xfrm>
              <a:off x="406440" y="2565360"/>
              <a:ext cx="568944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6440" y="2616120"/>
              <a:ext cx="568944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355320" y="8000640"/>
            <a:ext cx="1229364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1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2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3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4" algn="just">
              <a:lnSpc>
                <a:spcPct val="90000"/>
              </a:lnSpc>
              <a:buClr>
                <a:srgbClr val="4a72a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5" algn="just">
              <a:lnSpc>
                <a:spcPct val="90000"/>
              </a:lnSpc>
              <a:buClr>
                <a:srgbClr val="24375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  <a:p>
            <a:pPr lvl="6" algn="just">
              <a:lnSpc>
                <a:spcPct val="90000"/>
              </a:lnSpc>
              <a:buClr>
                <a:srgbClr val="24375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55320" y="6908400"/>
            <a:ext cx="1229364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8623440"/>
            <a:ext cx="12193560" cy="50760"/>
            <a:chOff x="404640" y="8623440"/>
            <a:chExt cx="12193560" cy="50760"/>
          </a:xfrm>
        </p:grpSpPr>
        <p:sp>
          <p:nvSpPr>
            <p:cNvPr id="126" name=""/>
            <p:cNvSpPr/>
            <p:nvPr/>
          </p:nvSpPr>
          <p:spPr>
            <a:xfrm>
              <a:off x="404640" y="862344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640" y="867420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257480" indent="-36864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70172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214632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2146320" indent="-368280">
              <a:spcBef>
                <a:spcPts val="75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2146320" indent="-368280">
              <a:spcBef>
                <a:spcPts val="75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04640" y="2565360"/>
            <a:ext cx="12193560" cy="50760"/>
            <a:chOff x="404640" y="2565360"/>
            <a:chExt cx="12193560" cy="50760"/>
          </a:xfrm>
        </p:grpSpPr>
        <p:sp>
          <p:nvSpPr>
            <p:cNvPr id="204" name=""/>
            <p:cNvSpPr/>
            <p:nvPr/>
          </p:nvSpPr>
          <p:spPr>
            <a:xfrm>
              <a:off x="404640" y="256536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4640" y="261612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257480" indent="-36864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70172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214632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2146320" indent="-368280">
              <a:spcBef>
                <a:spcPts val="75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2146320" indent="-368280">
              <a:spcBef>
                <a:spcPts val="75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5320" y="2629080"/>
            <a:ext cx="122936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04640" y="4863960"/>
            <a:ext cx="12193560" cy="50760"/>
            <a:chOff x="404640" y="4863960"/>
            <a:chExt cx="12193560" cy="50760"/>
          </a:xfrm>
        </p:grpSpPr>
        <p:sp>
          <p:nvSpPr>
            <p:cNvPr id="245" name=""/>
            <p:cNvSpPr/>
            <p:nvPr/>
          </p:nvSpPr>
          <p:spPr>
            <a:xfrm>
              <a:off x="404640" y="486396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4640" y="491472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56120" y="2984040"/>
            <a:ext cx="58928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4956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72396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14588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1990440" indent="-34956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1990440" indent="-34956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1990440" indent="-34956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04640" y="2565360"/>
            <a:ext cx="12193560" cy="50760"/>
            <a:chOff x="404640" y="2565360"/>
            <a:chExt cx="12193560" cy="50760"/>
          </a:xfrm>
        </p:grpSpPr>
        <p:sp>
          <p:nvSpPr>
            <p:cNvPr id="286" name=""/>
            <p:cNvSpPr/>
            <p:nvPr/>
          </p:nvSpPr>
          <p:spPr>
            <a:xfrm>
              <a:off x="404640" y="256536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4640" y="261612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76212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120636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3" marL="165096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4" marL="209556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5" marL="2095560" indent="-36828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6" marL="2095560" indent="-368280">
              <a:lnSpc>
                <a:spcPct val="90000"/>
              </a:lnSpc>
              <a:spcBef>
                <a:spcPts val="3801"/>
              </a:spcBef>
              <a:buClr>
                <a:srgbClr val="243750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04640" y="2565360"/>
            <a:ext cx="12193560" cy="50760"/>
            <a:chOff x="404640" y="2565360"/>
            <a:chExt cx="12193560" cy="50760"/>
          </a:xfrm>
        </p:grpSpPr>
        <p:sp>
          <p:nvSpPr>
            <p:cNvPr id="327" name=""/>
            <p:cNvSpPr/>
            <p:nvPr/>
          </p:nvSpPr>
          <p:spPr>
            <a:xfrm>
              <a:off x="404640" y="256536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4640" y="2616120"/>
              <a:ext cx="12193560" cy="0"/>
            </a:xfrm>
            <a:prstGeom prst="line">
              <a:avLst/>
            </a:prstGeom>
            <a:ln w="12600">
              <a:solidFill>
                <a:srgbClr val="668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43750"/>
                </a:solidFill>
                <a:latin typeface="Palatin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legeboard.com/" TargetMode="External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estiaschool.com/PM.qst?a=o&amp;d=95864076" TargetMode="External"/><Relationship Id="rId3" Type="http://schemas.openxmlformats.org/officeDocument/2006/relationships/hyperlink" Target="http://www.questiaschool.com/PM.qst?a=o&amp;d=5001612532" TargetMode="External"/><Relationship Id="rId4" Type="http://schemas.openxmlformats.org/officeDocument/2006/relationships/hyperlink" Target="http://www.questiaschool.com/PM.qst?a=o&amp;d=5002458159" TargetMode="External"/><Relationship Id="rId5" Type="http://schemas.openxmlformats.org/officeDocument/2006/relationships/hyperlink" Target="http://www.questiaschool.com/PM.qst?a=o&amp;d=5014739441" TargetMode="External"/><Relationship Id="rId6" Type="http://schemas.openxmlformats.org/officeDocument/2006/relationships/hyperlink" Target="http://www.questiaschool.com/PM.qst?a=o&amp;d=5000530122" TargetMode="External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68280" y="8807400"/>
            <a:ext cx="1225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72a9"/>
                </a:solidFill>
                <a:latin typeface="Palatino"/>
                <a:ea typeface="Palatino"/>
              </a:rPr>
              <a:t>September 19, 2009</a:t>
            </a:r>
            <a:endParaRPr b="0" lang="en-US" sz="1800" spc="-1" strike="noStrike">
              <a:solidFill>
                <a:srgbClr val="243750"/>
              </a:solidFill>
              <a:latin typeface="Palatino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5905440"/>
            <a:ext cx="122936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The Standardized Test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8000640"/>
            <a:ext cx="1229364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The Classroom Experience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662040" y="2044800"/>
            <a:ext cx="988704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Is the SAT accurate in predicting college performance?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Yes, even more so in the absence of a school mark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Inclusion of school grades made resulted in greater distortions: more positive for African-Americans and Hispanic-Americans; more negative for White and Asian (?) student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lege Board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collegeboard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When, where &amp; what to test?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8920" y="2590920"/>
            <a:ext cx="12763440" cy="671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83320" indent="-28332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onsider this: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625680" indent="-28332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PISA (Program for International Student Assessment) - OECD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625680" indent="-28332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aspects of school policy and practice found to be associated with better student performance: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968040" indent="-2836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 expectations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968040" indent="-2836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e and commitment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968040" indent="-2836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 autonom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SA, 2002)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968040" indent="-2836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of “test literacy” skills (Kathe Taylor &amp; Sherry Walton, 1997)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96804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2" marL="96804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28332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lvl="4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4834080" y="2800440"/>
            <a:ext cx="7762680" cy="46670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581652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What we know?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2641680"/>
            <a:ext cx="4788000" cy="692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est what skills and knowledge are taught. Line up with curricular objective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lear concise curriculum (see IB) and CBEEE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Allow for “meaningful learning” - create opportunities for student centered learning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68280" y="8807400"/>
            <a:ext cx="1225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72a9"/>
                </a:solidFill>
                <a:latin typeface="Palatino"/>
                <a:ea typeface="Palatino"/>
              </a:rPr>
              <a:t>Date</a:t>
            </a:r>
            <a:endParaRPr b="0" lang="en-US" sz="1800" spc="-1" strike="noStrike">
              <a:solidFill>
                <a:srgbClr val="243750"/>
              </a:solidFill>
              <a:latin typeface="Palatino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rcRect l="0" t="15597" r="0" b="15664"/>
          <a:stretch/>
        </p:blipFill>
        <p:spPr>
          <a:xfrm>
            <a:off x="368280" y="444600"/>
            <a:ext cx="12268080" cy="6324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5320" y="6908400"/>
            <a:ext cx="1229364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It’s not the test ...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5320" y="8000640"/>
            <a:ext cx="1229364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it’s the teaching.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Citations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1917720"/>
            <a:ext cx="12293640" cy="739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shop, John H. "The Effect of Curriculum-Based External Exit Exam Systems on Student Achievement." Journal of Economic Education 29.2 (1998): 171-182. Questia. 18 Sept. 2009 &lt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2"/>
              </a:rPr>
              <a:t>http://www.questiaschool.com/PM.qst?a=o&amp;d=95864076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nerst, Carol. "Home-Schooled Kids Meet High Standards: Scores Surpass Public School Students'." The Washington Times 6 Mar. 1997: 5. Questia. 18 Sept. 2009 &lt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3"/>
              </a:rPr>
              <a:t>http://www.questiaschool.com/PM.qst?a=o&amp;d=5001612532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"PISA Survey Accents Role of Teacher." Reading Today Feb.-Mar. 2002: 1+. Questia. 18 Sept. 2009 &lt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4"/>
              </a:rPr>
              <a:t>http://www.questiaschool.com/PM.qst?a=o&amp;d=5002458159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phman, W. James. “Uses and Misuses of Standardized Achievement Test”. NASSP Bulletin, Vol. 85, No. 622, pp. 24-31. February, 2001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obertson, Heather-Jane. "An Idea Whose Time Keeps Coming." Phi Delta Kappan 87.5 (2006): 410. Questia. 18 Sept. 2009 &lt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5"/>
              </a:rPr>
              <a:t>http://www.questiaschool.com/PM.qst?a=o&amp;d=5014739441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aylor, Kathe, and Sherry Walton. "Co-opting Standardized Tests in the Service of Learning." Phi Delta Kappan 78.1 (1997): 66+. Questia. 18 Sept. 2009 &lt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6"/>
              </a:rPr>
              <a:t>http://www.questiaschool.com/PM.qst?a=o&amp;d=5000530122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Zwick, Rebecca. "Eliminating Standardized Tests in College Admissions : The New Affirmative Action?." Phi Delta Kappan 81.4 (1999): 320. Questia. 18 Sept. 2009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http://www.questiaschool.com/PM.qst?a=o&amp;d=5001865977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682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Why does this matter?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Performance matter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omparison with ... whatever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Accountability of </a:t>
            </a:r>
            <a:r>
              <a:rPr b="0" i="1" lang="en-US" sz="3000" spc="-1" strike="noStrike">
                <a:solidFill>
                  <a:srgbClr val="000000"/>
                </a:solidFill>
                <a:latin typeface="Palatino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 partie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2"/>
          <a:srcRect l="1826" t="6147" r="1986" b="0"/>
          <a:stretch/>
        </p:blipFill>
        <p:spPr>
          <a:xfrm>
            <a:off x="5813280" y="2025720"/>
            <a:ext cx="7116840" cy="5472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581652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What is lost?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0440" y="2768760"/>
            <a:ext cx="5207040" cy="63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Learning to take a test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Teaching to a test.” Focu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Differentiated instruction will not occur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68280" y="8807400"/>
            <a:ext cx="1225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72a9"/>
                </a:solidFill>
                <a:latin typeface="Palatino"/>
                <a:ea typeface="Palatino"/>
              </a:rPr>
              <a:t>Date</a:t>
            </a:r>
            <a:endParaRPr b="0" lang="en-US" sz="1800" spc="-1" strike="noStrike">
              <a:solidFill>
                <a:srgbClr val="243750"/>
              </a:solidFill>
              <a:latin typeface="Palatino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rcRect l="0" t="14200" r="3001" b="8003"/>
          <a:stretch/>
        </p:blipFill>
        <p:spPr>
          <a:xfrm>
            <a:off x="368280" y="-12600"/>
            <a:ext cx="11899800" cy="78613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09120" y="8000640"/>
            <a:ext cx="1229364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Exclusively Top Down Instruction 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68280" y="8807400"/>
            <a:ext cx="1225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72a9"/>
                </a:solidFill>
                <a:latin typeface="Palatino"/>
                <a:ea typeface="Palatino"/>
              </a:rPr>
              <a:t>September 17, 2009</a:t>
            </a:r>
            <a:endParaRPr b="0" lang="en-US" sz="1800" spc="-1" strike="noStrike">
              <a:solidFill>
                <a:srgbClr val="243750"/>
              </a:solidFill>
              <a:latin typeface="Palatino"/>
            </a:endParaRPr>
          </a:p>
        </p:txBody>
      </p:sp>
      <p:pic>
        <p:nvPicPr>
          <p:cNvPr id="533" name="The Standardized Test Classroom.ppt_media/SAT Tests Student and Staff Response-1.mov" descr=""/>
          <p:cNvPicPr/>
          <p:nvPr/>
        </p:nvPicPr>
        <p:blipFill>
          <a:blip r:embed="rId2"/>
          <a:stretch/>
        </p:blipFill>
        <p:spPr>
          <a:xfrm>
            <a:off x="2641680" y="444600"/>
            <a:ext cx="7729560" cy="6324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5320" y="6908400"/>
            <a:ext cx="1229364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What is said about the SAT?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5320" y="8000640"/>
            <a:ext cx="1229364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72a9"/>
                </a:solidFill>
                <a:latin typeface="Palatino"/>
              </a:rPr>
              <a:t>A College Counselor (Rich Mordica at KIS) speaks</a:t>
            </a:r>
            <a:endParaRPr b="0" lang="en-US" sz="2400" spc="-1" strike="noStrike">
              <a:solidFill>
                <a:srgbClr val="4a72a9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rcRect l="11509" t="0" r="34518" b="0"/>
          <a:stretch/>
        </p:blipFill>
        <p:spPr>
          <a:xfrm>
            <a:off x="7124760" y="431640"/>
            <a:ext cx="6121440" cy="70884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rcRect l="26401" t="4263" r="33478" b="4218"/>
          <a:stretch/>
        </p:blipFill>
        <p:spPr>
          <a:xfrm>
            <a:off x="368280" y="444600"/>
            <a:ext cx="6121440" cy="87249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629400" y="7480440"/>
            <a:ext cx="62611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3750"/>
                </a:solidFill>
                <a:latin typeface="Palatino"/>
                <a:ea typeface="Palatino"/>
              </a:rPr>
              <a:t>The Case of Dr. Ben Chavis</a:t>
            </a:r>
            <a:endParaRPr b="0" lang="en-US" sz="3000" spc="-1" strike="noStrike">
              <a:solidFill>
                <a:srgbClr val="24375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3750"/>
                </a:solidFill>
                <a:latin typeface="Palatino"/>
                <a:ea typeface="Palatino"/>
              </a:rPr>
              <a:t>The American Indian Charter School, Oakland, California</a:t>
            </a:r>
            <a:endParaRPr b="0" lang="en-US" sz="3000" spc="-1" strike="noStrike">
              <a:solidFill>
                <a:srgbClr val="24375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3750"/>
                </a:solidFill>
                <a:latin typeface="Palatino"/>
                <a:ea typeface="Palatino"/>
              </a:rPr>
              <a:t> </a:t>
            </a:r>
            <a:endParaRPr b="0" lang="en-US" sz="3000" spc="-1" strike="noStrike">
              <a:solidFill>
                <a:srgbClr val="24375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2"/>
          <a:srcRect l="16667" t="0" r="16667" b="0"/>
          <a:stretch/>
        </p:blipFill>
        <p:spPr>
          <a:xfrm>
            <a:off x="6210360" y="-101520"/>
            <a:ext cx="6502320" cy="97534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120" y="533160"/>
            <a:ext cx="581652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Good idea 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81652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Informs parent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Informs teacher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elects students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Allocates resource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ee W. James Popham (UCLA)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rcRect l="5663" t="1911" r="4416" b="0"/>
          <a:stretch/>
        </p:blipFill>
        <p:spPr>
          <a:xfrm>
            <a:off x="5921280" y="565200"/>
            <a:ext cx="6156360" cy="81262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5680" y="215640"/>
            <a:ext cx="519408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43750"/>
                </a:solidFill>
                <a:latin typeface="Didot"/>
              </a:rPr>
              <a:t>Problems</a:t>
            </a:r>
            <a:endParaRPr b="0" lang="en-US" sz="6400" spc="-1" strike="noStrike">
              <a:solidFill>
                <a:srgbClr val="243750"/>
              </a:solidFill>
              <a:latin typeface="Dido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55680" y="2730600"/>
            <a:ext cx="519408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Standardized Tests are not to be used for: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Evaluating teachers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Evaluating school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Making instructional decisions.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Palatino"/>
              </a:rPr>
              <a:t>Promoting or grading students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-368280">
              <a:lnSpc>
                <a:spcPct val="90000"/>
              </a:lnSpc>
              <a:spcBef>
                <a:spcPts val="3801"/>
              </a:spcBef>
              <a:buClr>
                <a:srgbClr val="4a72a9"/>
              </a:buClr>
              <a:buSzPct val="50000"/>
              <a:buFont typeface="Zapf Dingbats"/>
              <a:buChar char="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ee W. James Popham (UCLA)</a:t>
            </a: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lvl="1" marL="8128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04920" y="3187800"/>
            <a:ext cx="1215396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4375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3600" spc="-1" strike="noStrike">
                <a:solidFill>
                  <a:srgbClr val="243750"/>
                </a:solidFill>
                <a:latin typeface="Times New Roman"/>
                <a:ea typeface="Times New Roman"/>
              </a:rPr>
              <a:t>Eliminating standardized tests and relying more heavily on high school achievement in admissions decisions simply cannot result in a dramatic change in the ethnic diversity of the student body. In short, dismantling admissions test requirements as a backdoor affirmative action policy cannot work.”</a:t>
            </a:r>
            <a:endParaRPr b="0" lang="en-US" sz="3600" spc="-1" strike="noStrike">
              <a:solidFill>
                <a:srgbClr val="243750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43750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243750"/>
                </a:solidFill>
                <a:latin typeface="Times New Roman"/>
                <a:ea typeface="Times New Roman"/>
              </a:rPr>
              <a:t>Rebecca Zwick (1999)</a:t>
            </a:r>
            <a:endParaRPr b="0" lang="en-US" sz="3600" spc="-1" strike="noStrike">
              <a:solidFill>
                <a:srgbClr val="243750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